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A296-B86A-4A6F-9AB2-88C44C68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DB92-9150-446C-853B-79A412D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1F6B-8746-49DF-AD5D-AF05A2F4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443B-7AB5-4355-93C1-897BDB6D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2D8B-3ABD-4CA1-9C3C-D2277E95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8713-1AF3-45DA-9373-79E64A13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07D6-1661-4B9F-8B59-FA8CB27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B5D5-4564-4D1C-B761-96520345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5508-8AAC-43D7-8C18-474584B0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9692-C426-4B75-B726-57BE464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EFDE-7F49-41C0-BADA-6DEAC79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1E28-6783-4B40-9C37-99E8179E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497B-1A98-4E58-9634-B6E10F0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30C9-C572-41E5-A30E-3905475D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D064-ACB0-4945-A2E5-099AB051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FFA4-B9C4-43C4-B010-E0C1A49A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985B-0E30-43EC-9228-44C56C65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CEFD-93CA-4F55-998F-6C061CD4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6383-C4C9-4A6E-9E20-9FF7CBA3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6E92-6D56-4A38-A790-1BB726DB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9963-9844-4E4F-80E7-8BA8585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F74E-82F5-4AF4-9AFD-454593B8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B921-5FD1-4BA4-BEAC-8DC4C10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13D0-E591-4616-8E8F-37EFA5B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67E9-812E-4A50-A1AE-E34A23C446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E8F6-D709-42DB-8E69-7502C70C29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icro.magnet.fsu.edu/primer/java/scienceopticsu/powersof10/" TargetMode="External"/><Relationship Id="rId2" Type="http://schemas.openxmlformats.org/officeDocument/2006/relationships/hyperlink" Target="http://micro.magnet.fsu.edu/primer/java/scienceopticsu/powersof10/" TargetMode="External"/><Relationship Id="rId3" Type="http://schemas.openxmlformats.org/officeDocument/2006/relationships/hyperlink" Target="http://micro.magnet.fsu.edu/primer/java/scienceopticsu/powersof10/" TargetMode="External"/><Relationship Id="rId4" Type="http://schemas.openxmlformats.org/officeDocument/2006/relationships/hyperlink" Target="http://micro.magnet.fsu.edu/primer/java/scienceopticsu/powersof10/" TargetMode="External"/><Relationship Id="rId5" Type="http://schemas.openxmlformats.org/officeDocument/2006/relationships/hyperlink" Target="http://micro.magnet.fsu.edu/primer/java/scienceopticsu/powersof10/" TargetMode="External"/><Relationship Id="rId6" Type="http://schemas.openxmlformats.org/officeDocument/2006/relationships/hyperlink" Target="http://micro.magnet.fsu.edu/primer/java/scienceopticsu/powersof10/" TargetMode="External"/><Relationship Id="rId7" Type="http://schemas.openxmlformats.org/officeDocument/2006/relationships/hyperlink" Target="http://micro.magnet.fsu.edu/primer/java/scienceopticsu/powersof10/" TargetMode="External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lying Mathematical Concepts to Chemist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cognizing Sig Fig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Placeholder zeros are not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0.01g has one sig fi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000g has one sig fi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000.g has four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000.0g has five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Counting numbers and constants have infinite significant 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5 people has infinite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ule for Multiplying/Dividing Sig Fig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y as usual in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 answer to same number of sig figs as the lowest original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1000 x 123.456 = 123456 = 10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1000. x 123.456 = 123456 = 123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actice Multiplying/Divid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20 x 1.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412 x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2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2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400 / 613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ule for Adding/Subtract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 answer to least “precise” original op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1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     1.23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87692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actice Adding/Subtract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.23 + 56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000954 + 5.05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5.0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0045 – 0.0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nits of Measu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its- scientifically accepted units of measu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Know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(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sity (g/m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86200" y="25909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Metric Syst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18478" b="48153"/>
          <a:stretch/>
        </p:blipFill>
        <p:spPr>
          <a:xfrm>
            <a:off x="167652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297180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tric Practi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623.19 hL = __________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026 mm = ___________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.025 kg =  ___________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line Powers of 10 Demonstr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1"/>
              </a:rPr>
              <a:t>http://micro.magnet.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2"/>
              </a:rPr>
              <a:t>fsu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4"/>
              </a:rPr>
              <a:t>edu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5"/>
              </a:rPr>
              <a:t>/primer/java/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6"/>
              </a:rPr>
              <a:t>scienceopticsu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7"/>
              </a:rPr>
              <a:t>/powersof10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ood Info to Know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- amount of space an object takes up (ex: lit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= l x w x 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 mL by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429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ore Good Info to Know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s different from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ss ≠ 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ss= measure of the amount of matter in an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Weight= force caused by  the pull of gravity on an obje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***Mass is constant while weight varies               depending on the location of an object***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ise format for representing extremely large or smal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51588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umber between 1 and 9.99999999…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51588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ower of t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51588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368360" indent="-45396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6.02 x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23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= 602,000,000,000,000,000,000,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68360" indent="-45396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2.0 x 10 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-7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m = 0.0000002 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Use calculator to solve problems on p. 788-7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2"/>
            <a:endCxn id="117" idx="2"/>
          </p:cNvCxnSpPr>
          <p:nvPr/>
        </p:nvCxnSpPr>
        <p:spPr>
          <a:xfrm>
            <a:off x="5105160" y="5638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mperature Sc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7010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mperature Convers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s Celsius to Kelv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elv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elsi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C = ?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elv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25 +273=298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lvin to Degrees Cels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elsi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elv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2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210 K = ?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273–210= -6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rived Quantities- Densit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- how much matter is in the volume an object takes up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 = mass/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= g/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0" r="0" b="22232"/>
          <a:stretch/>
        </p:blipFill>
        <p:spPr>
          <a:xfrm>
            <a:off x="3505320" y="3276720"/>
            <a:ext cx="5333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termining Density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- measure in grams with ba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gular shaped object: measure sides and use volume formul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: rectangle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V= l x w x 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rregular shaped object: water displace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nsity by Water Displace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l graduated cylinder to known initial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 final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ract initial volume from final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 volume of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aphing Dat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t pa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ven sca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st fit/trendli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formative Tit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beled Ax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257440" y="198108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24080" y="1754280"/>
            <a:ext cx="5715000" cy="5103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7339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es Volume Impact Tempera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curacy vs Precis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04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uracy- closeness of measurements to the targe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9960"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Error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宋体"/>
              </a:rPr>
              <a:t>- difference between measured value and accepted value (absolute value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7440" y="19807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ion- closeness of measurements to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1485" t="0" r="0" b="-908"/>
          <a:stretch/>
        </p:blipFill>
        <p:spPr>
          <a:xfrm>
            <a:off x="5181480" y="3753000"/>
            <a:ext cx="39625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ercent Erro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error = (accepted-experimental)  x 10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The measured mass is 5.0g.  It was predicted that the accepted value should have been 6.0 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error = 6.0g-5.0g x 100 = 16.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25146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53341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ignificant Figur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are limited in their sensitivity by the instrument used to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14945" r="0" b="22992"/>
          <a:stretch/>
        </p:blipFill>
        <p:spPr>
          <a:xfrm>
            <a:off x="3962520" y="3733920"/>
            <a:ext cx="4419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stimating Measuremen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one place past the instr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.0 mL is saying the actual measurement is between               34.9  and 35.1 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160" y="198108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381024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Significant Figure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involve ro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ing/dividing or adding/subtracting measurements can not make them mor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way to tell how sensitive a measurement really i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≠ 5.0 ≠ 5.00 ≠ 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76160" y="456840"/>
            <a:ext cx="7010280" cy="5638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cognizing Significant Digi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Nonzero digits are always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543.21 meters has 5 significant figu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Zeros between nonzeros are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505.05 liters has 5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Zeros to the right of a decimal and a nonzero are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3.10 has 3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22:08:30Z</dcterms:created>
  <dc:creator>cmichene</dc:creator>
  <dc:description/>
  <dc:language>en-US</dc:language>
  <cp:lastModifiedBy>Dawn Pav</cp:lastModifiedBy>
  <dcterms:modified xsi:type="dcterms:W3CDTF">2010-09-27T20:42:07Z</dcterms:modified>
  <cp:revision>50</cp:revision>
  <dc:subject/>
  <dc:title>Data Analysis</dc:title>
</cp:coreProperties>
</file>